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11.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6.wmf" ContentType="image/x-wmf"/>
  <Override PartName="/ppt/media/image10.wmf" ContentType="image/x-wmf"/>
  <Override PartName="/ppt/media/image4.jpeg" ContentType="image/jpeg"/>
  <Override PartName="/ppt/media/image25.png" ContentType="image/png"/>
  <Override PartName="/ppt/media/image5.wmf" ContentType="image/x-wmf"/>
  <Override PartName="/ppt/media/image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1.png" ContentType="image/png"/>
  <Override PartName="/ppt/media/image24.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7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7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71B5-AD9C-48B9-8723-DBB054863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F167-8E89-48C4-9C82-3DC0C7C613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1CCDB-0402-40F4-B814-2EEFD25EE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D29C7-CB75-481A-84D9-2088F87C3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3B1456-6481-477C-B416-9429730B2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E195E-C24B-47F7-9099-BBC6E94D30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7D3AB-4AC2-4D4C-AB7D-B522F7CD87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8BD1C-18A3-4BD2-BE45-A7C047105B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18AACE-4BAE-42FF-A05E-CDBDAD0E69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820200-3D60-406C-BE2E-2B2F8A181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999263-B9C2-4E83-A1FF-ADF948A758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0EEA99-DA41-437A-A9EA-72B8D94494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DF0034-E4EE-45C7-82CB-261FA80276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C18017-5977-471A-A9CA-2E508C30BE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8845D-E3CD-48F3-A341-B7B130848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00B358-AFDA-4EF1-8BFB-901E8AD58E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C9B4DF-B496-485E-B403-39597BDAFB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86954C-5928-4D24-8006-B4F54D66F0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B84AF5-F7B1-42A6-BA0D-B0D1C1DB28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E01979-C68B-443C-BAA5-9E2477DCFD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C1CBCA-40CA-4DE3-98EF-D6585BC7CE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D6627C-CC3A-44D9-9C49-1C1E4A7D2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9CF779-B730-4DCB-8DAB-3E431ED884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E723FB-4D32-4BA5-B13B-4884A61D4E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533CC0-B389-4A5A-801E-CE11CA1030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7AA37-6D5C-4D19-B453-FBC31A438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5C1B5F-8464-4004-965A-A8A5D0811E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545719-5ACB-4B73-9785-E2E571A53E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AC4456-7886-4307-84C0-FE565A4242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256A15-6A88-4205-93E8-904258C80C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8AC591-1A40-460B-A1A7-7C7F3F275B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8311A8-3D25-4BFE-BF3E-9211169278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A18575-B4BB-4798-8EDA-6D22B2B70D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AE374B-1F4E-47C5-9059-6C546C30B6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F2D0AE-E505-42F0-B3A8-BC68D46892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3C8710-A995-46A5-A398-E8D9EF8092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64583-9BD3-4D56-87B6-FF14667FA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840C5F-13B8-4CEE-9585-805DFDEBC9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7831DB-BA4C-433B-BA32-5AB7B4E881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0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0865C3-9629-468C-87FC-29ABD343D9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EF6541A-CE54-4DE4-A4D2-FFF59F439C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1C0E9A-46E4-4998-8003-2B32E01546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1D28C4-44DB-4C17-91A0-095BFD5F3B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569347-0685-4EC7-8A4B-6A3379FB42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6D542D-0033-48CD-805E-686AFB94C0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6C1FCB-CD34-4044-A677-82A85BBCF4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D1D57C-6FDE-4B10-83E9-913AB7DC1E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9D73B-D78A-4CC1-9A57-EC731C6BA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0F2A91-3E8B-4E63-877A-75EAD31C04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62731D-4270-4D1E-AD02-36E06AF193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7EF619-53BF-46FB-B0DC-3E4A1F2129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4D51C9-2258-4215-9249-C3F554CFFD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FBF2E8-3CB9-4281-84E9-02A117014B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87D4947-DF2E-4871-8571-2E47D60FAC5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16A9C7-23B5-4B15-A9E8-FE56572E3D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D5EFB5-E9CC-49D2-A907-C772FD6809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5A2D26-A4D2-453E-8613-19EBD7AF06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27D742-6811-41D7-AAD1-018567D9EE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1A33A-D001-4614-AB31-5A3265E80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2E813B-3946-49A7-9228-8A45315448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2ECD3C-A454-443D-B110-292C033EB1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473622-155F-4173-AA26-0DF0E8A764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F9E7D9-1989-4713-B429-F8E95FFE3C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04F75CF-727E-4BE0-B2FD-CDA8E01C2D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CDBDB2-7065-46E0-8EB9-C89836B401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03D6AD9-2583-4E59-BB26-494077EDF7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024BA68-0337-443E-983E-EF1B3815765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6375C5-9A9C-4DAE-9469-F0D4EF7786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F07FF0-2655-430D-AE77-D998215CC7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622BD-0DB5-457C-904C-C4B93C728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482C09-31F7-4E8D-81DA-510AE4DB26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21106D-5B85-4425-9A6B-8ED2D8B540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E63941-6AD8-4CC2-A88A-9DBBB68F6C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74730A-9270-445C-B1DD-7476DB153A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00C1B9-3C18-4AAC-ADAF-89EA1E3FCF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38173E-18E3-4138-AE9A-F3DD4FDA6B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925384-5770-4379-9494-DFC3C5AFFA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EB32F3A-7BCC-4406-8E37-A0D3926C561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5A8C59-8EA4-4DA7-BC7A-437BCD88B6B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EAE7E65-7ABA-4FE9-91FB-766834D914B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171B3-2347-4D5F-A36E-3B6CF96EA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4628DA-7461-4196-AAC3-C6F494D0FA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62CD08-F357-45D7-AA47-3F00951376D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E6176E-B678-4B23-A75F-7E0C31DC31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0045A3-C54C-42A2-8A32-BEB4993218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0DA725-E80D-4B20-9478-10A3AA1BE5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D76229-05EE-42E1-9AAC-BAD6453C37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3C3F80-9D94-464F-AFA9-40A517C594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A23B8D-8EA3-448E-B1DF-7DB6D1FB6F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DDB79D0-5199-4321-AE15-DD39671D354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7AA02D-5C94-4D92-9C50-3BD05493683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300B1-91E5-45E0-86C5-06BCC55A3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E8949DA-6130-4AC6-A5D6-42051C337CB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52710E7-754E-4618-8D55-067F3644B81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A20B70-F655-458C-AA7F-320733E125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740D34-AE58-45B4-87CF-07A9C343FD4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5BED84-8467-4D77-9712-D3137C7EA5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50078F-8D69-42B1-B0D9-C582F0F025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BA22F8F-7666-481A-BC97-D24FBBB8AA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4ED18A-D678-4192-939F-9699D8BC1B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75F3B1-FFDF-4707-9D31-543D1074393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18F5261-2FEC-4877-A4FE-399116B14A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2FB35-92F7-4C5B-B696-4421B6B83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43AAE3-6AE9-40EB-9868-E3DB4F83549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F94FB59-8443-4A50-B1D3-440F0DD434F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EC3580A-A6EE-4FD1-A64F-46A73AF2A40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A85D1-6DEA-40EF-87D7-7EAA87CC6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757EA-54D4-494E-BD53-02A0AE767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66841-EAAE-4B10-B239-57D26CAE8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3B3DC-CE9A-4501-821B-E61626A52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F02E5-73C9-40A0-ACBD-41EC29662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C84D3-E508-4308-B2DA-1F8A4301E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136AA-373D-4110-90B4-2C38B2F37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E864D-F891-4812-8725-6FD3382B4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E8441-8F10-469A-9108-8083FE268F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4A76C-D119-446D-A4F6-95EEFF989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8DE94-8B55-4705-9FF9-C324D3A60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4732-3CA9-42F5-9443-F3E0AD78C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F46FBD-102D-4C7B-803D-C8F6B434D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EAB20-AF0E-4027-9F28-F2B383F62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5CDED-F80F-4FC4-B1E9-53B8A89AD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BEF91-6F3F-4F86-87D9-05AE8BFF08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1D104-E463-4F8B-8A4F-45232D2EF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C442A-7554-4B5D-93B0-67CDFE9ED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E94397-1AB6-477F-AE1F-0E2A7B4030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702BB-EDCC-44F1-BFEA-AD66C2424B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68969-81E3-4E05-BBE1-FCEE21589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B9D03-FEF3-492E-B8B7-72D43D074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2653B-68D6-4637-AE13-4B2BC9D3A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6463B-14F2-4E73-8927-40D98A284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EF0218-79B6-4D56-89CF-24D220884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54EE0-432B-4EDD-A146-CE7E7387D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191EE-40B4-4046-9623-A7E0FE430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242FF-BB41-4C92-9042-52A369754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7B436-3632-4B0A-9A83-9CAB3299D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CEEED-1ACE-4816-B8B8-B78343F34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45F782-3D61-40F2-91CE-2BB17314FE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C827DF-CABC-44BB-B1EC-43B5F9A49F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DA2FE5-E87C-454C-A97F-FE542E60A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2EE4-94E1-4CE5-B374-16F6A0825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B13FF-CED9-4D7A-BA6E-C0B5FFD74D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D5CB7-2A7F-4D55-8D3D-1DE3094CA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3AE6D-3DC9-4025-B7BA-0F4F994B3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E48EB-2BC3-4F1B-9C06-F4C7494D9F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29F66-1F1A-4B2F-A6B9-44EFEAD37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AC9D8-F650-4674-8426-25F15903A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36354-49C5-44FD-AF4D-42C756AE4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83C12-F988-40FA-A8C3-6EB84BEE6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E9C0F-D3A8-4A14-85D3-6AF87BF9AA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6BDA8-51CD-4FBE-A6DB-A50DADDA2C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FE4D-458A-4134-926D-E1432D73E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179180-0A8F-4B39-A87A-55C4DDAE1D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FB60A-5075-4F47-B2CE-30EBC1C146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91FAAB-F161-442A-AA8B-158A6478B7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EC27B5-B574-45E0-B50B-07E731E22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B41C7-1C38-4BA8-912A-8BB316087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C4699-C0B7-4056-BA76-F0EA79D28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484D3-4CD7-4B8A-B4C1-8C8099349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965B1E-D8FD-4995-B39D-89F3C1FD9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DFF5D-C806-45E0-8442-B2637E551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E49C0-1A0B-4A90-AB0D-CBC543A28E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47FF7-A38B-4097-BF2D-2914576D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FB0BF-4407-4605-998D-887F793CD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FDCD56-38E3-4F9C-AF98-83A7221603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868B11-077B-4E6D-8E3C-29C9381EBB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A3DD5C-C337-4A47-95B0-F6F3758796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96D8F7-F166-4E72-9F24-77C00B972D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47B68-BD58-4DF0-9257-DB145F488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E16C79-5F56-46DE-9C08-BB5E1DB417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554547-2094-4657-92E6-8033B07212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93C2F-2D54-45FF-BAFD-3F9C37234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E6AFD-7B09-4035-881F-DD26790F3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A6E3-8CC8-4467-B93C-C1FD3EAC7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752CF-7810-42FE-A5DF-06497CE36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25322-0029-4663-8797-B8325C9C3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65C51A-8354-4ADA-802B-3B6E64C6B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EF54E1-8C7E-4320-957E-C30BDAFBB4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6078F7-BA29-437B-B797-90798CEFB7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5064E9-BBD9-4DBA-B229-4A2FD0227D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419C0-253D-4394-9F80-55A3249A7F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1F9C22-21C2-4833-BE44-DFCCE49B39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A797C-1B1B-4754-8BA3-F23203B627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BE7DBE-F5EB-499B-A9BE-13B377CA6C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7E72F-AC85-4467-BDC9-1F99D88C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77E8EA-7EBD-4C19-B2FF-0397BECD1D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99669-F29F-4115-B6CD-9887D4CA9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3BA35-D031-40D0-A094-DA0D84CE6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D5EEF-ADFD-40E1-993C-D75F82097D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B9A53-2C1E-493F-9515-298D46C85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896E8A-FD77-4A64-AD2B-3B68C523BD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3B35DF-4868-4F83-BE32-46FE052E63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B4310C-9172-4D2F-9A0F-31DAB74E89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256296-B23E-4A38-A668-B1E099151A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9E35C9-AC04-4222-AA6B-15907D87EF1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3CB4-2D8B-418B-AF41-6BA5E74DB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2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29" name="PlaceHolder 3"/>
          <p:cNvSpPr>
            <a:spLocks noGrp="1"/>
          </p:cNvSpPr>
          <p:nvPr>
            <p:ph type="dt" idx="28"/>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PlaceHolder 4"/>
          <p:cNvSpPr>
            <a:spLocks noGrp="1"/>
          </p:cNvSpPr>
          <p:nvPr>
            <p:ph type="ftr" idx="29"/>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1" name="PlaceHolder 5"/>
          <p:cNvSpPr>
            <a:spLocks noGrp="1"/>
          </p:cNvSpPr>
          <p:nvPr>
            <p:ph type="sldNum" idx="30"/>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D0D8-F3B2-43A0-80DD-9D952D411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6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0" name="PlaceHolder 3"/>
          <p:cNvSpPr>
            <a:spLocks noGrp="1"/>
          </p:cNvSpPr>
          <p:nvPr>
            <p:ph type="dt" idx="31"/>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PlaceHolder 4"/>
          <p:cNvSpPr>
            <a:spLocks noGrp="1"/>
          </p:cNvSpPr>
          <p:nvPr>
            <p:ph type="ftr" idx="32"/>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PlaceHolder 5"/>
          <p:cNvSpPr>
            <a:spLocks noGrp="1"/>
          </p:cNvSpPr>
          <p:nvPr>
            <p:ph type="sldNum" idx="33"/>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C180-B3E2-4741-9B8F-729F8885C19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1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11" name="PlaceHolder 3"/>
          <p:cNvSpPr>
            <a:spLocks noGrp="1"/>
          </p:cNvSpPr>
          <p:nvPr>
            <p:ph type="dt" idx="34"/>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2" name="PlaceHolder 4"/>
          <p:cNvSpPr>
            <a:spLocks noGrp="1"/>
          </p:cNvSpPr>
          <p:nvPr>
            <p:ph type="ftr" idx="35"/>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PlaceHolder 5"/>
          <p:cNvSpPr>
            <a:spLocks noGrp="1"/>
          </p:cNvSpPr>
          <p:nvPr>
            <p:ph type="sldNum" idx="36"/>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A7A7-77DE-4E23-A706-7FC423DBF166}"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0" name="Rectangle 7"/>
          <p:cNvGrpSpPr/>
          <p:nvPr/>
        </p:nvGrpSpPr>
        <p:grpSpPr>
          <a:xfrm>
            <a:off x="2664000" y="-6480"/>
            <a:ext cx="6486480" cy="6870960"/>
            <a:chOff x="2664000" y="-6480"/>
            <a:chExt cx="6486480" cy="6870960"/>
          </a:xfrm>
        </p:grpSpPr>
        <p:pic>
          <p:nvPicPr>
            <p:cNvPr id="551" name="Rectangle 7" descr=""/>
            <p:cNvPicPr/>
            <p:nvPr/>
          </p:nvPicPr>
          <p:blipFill>
            <a:blip r:embed="rId3"/>
            <a:stretch/>
          </p:blipFill>
          <p:spPr>
            <a:xfrm>
              <a:off x="2664000" y="-6480"/>
              <a:ext cx="6486480" cy="6870960"/>
            </a:xfrm>
            <a:prstGeom prst="rect">
              <a:avLst/>
            </a:prstGeom>
            <a:ln w="0">
              <a:noFill/>
            </a:ln>
          </p:spPr>
        </p:pic>
        <p:sp>
          <p:nvSpPr>
            <p:cNvPr id="552"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53"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5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56" name="PlaceHolder 3"/>
          <p:cNvSpPr>
            <a:spLocks noGrp="1"/>
          </p:cNvSpPr>
          <p:nvPr>
            <p:ph type="dt" idx="37"/>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7" name="PlaceHolder 4"/>
          <p:cNvSpPr>
            <a:spLocks noGrp="1"/>
          </p:cNvSpPr>
          <p:nvPr>
            <p:ph type="ftr" idx="38"/>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8"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7ECA-AFF8-4061-B0A2-2D4C91CC7E8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Rectangle 8"/>
          <p:cNvGrpSpPr/>
          <p:nvPr/>
        </p:nvGrpSpPr>
        <p:grpSpPr>
          <a:xfrm>
            <a:off x="8150400" y="-6480"/>
            <a:ext cx="1000080" cy="6870960"/>
            <a:chOff x="8150400" y="-6480"/>
            <a:chExt cx="1000080" cy="6870960"/>
          </a:xfrm>
        </p:grpSpPr>
        <p:pic>
          <p:nvPicPr>
            <p:cNvPr id="596" name="Rectangle 8" descr=""/>
            <p:cNvPicPr/>
            <p:nvPr/>
          </p:nvPicPr>
          <p:blipFill>
            <a:blip r:embed="rId2"/>
            <a:stretch/>
          </p:blipFill>
          <p:spPr>
            <a:xfrm>
              <a:off x="8150400" y="-6480"/>
              <a:ext cx="1000080" cy="6870960"/>
            </a:xfrm>
            <a:prstGeom prst="rect">
              <a:avLst/>
            </a:prstGeom>
            <a:ln w="0">
              <a:noFill/>
            </a:ln>
          </p:spPr>
        </p:pic>
        <p:sp>
          <p:nvSpPr>
            <p:cNvPr id="597"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9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00" name="PlaceHolder 3"/>
          <p:cNvSpPr>
            <a:spLocks noGrp="1"/>
          </p:cNvSpPr>
          <p:nvPr>
            <p:ph type="dt" idx="40"/>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1" name="PlaceHolder 4"/>
          <p:cNvSpPr>
            <a:spLocks noGrp="1"/>
          </p:cNvSpPr>
          <p:nvPr>
            <p:ph type="ftr" idx="41"/>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2"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6676-5171-4632-8339-0DF5D14B9786}"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9"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0"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64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643" name="PlaceHolder 3"/>
          <p:cNvSpPr>
            <a:spLocks noGrp="1"/>
          </p:cNvSpPr>
          <p:nvPr>
            <p:ph type="dt" idx="43"/>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4" name="PlaceHolder 4"/>
          <p:cNvSpPr>
            <a:spLocks noGrp="1"/>
          </p:cNvSpPr>
          <p:nvPr>
            <p:ph type="ftr" idx="4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5"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F7F3-F63B-4C7B-841A-97704519C68A}"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Rectangle 8"/>
          <p:cNvGrpSpPr/>
          <p:nvPr/>
        </p:nvGrpSpPr>
        <p:grpSpPr>
          <a:xfrm>
            <a:off x="8150400" y="-6480"/>
            <a:ext cx="1000080" cy="6870960"/>
            <a:chOff x="8150400" y="-6480"/>
            <a:chExt cx="1000080" cy="6870960"/>
          </a:xfrm>
        </p:grpSpPr>
        <p:pic>
          <p:nvPicPr>
            <p:cNvPr id="683" name="Rectangle 8" descr=""/>
            <p:cNvPicPr/>
            <p:nvPr/>
          </p:nvPicPr>
          <p:blipFill>
            <a:blip r:embed="rId2"/>
            <a:stretch/>
          </p:blipFill>
          <p:spPr>
            <a:xfrm>
              <a:off x="8150400" y="-6480"/>
              <a:ext cx="1000080" cy="6870960"/>
            </a:xfrm>
            <a:prstGeom prst="rect">
              <a:avLst/>
            </a:prstGeom>
            <a:ln w="0">
              <a:noFill/>
            </a:ln>
          </p:spPr>
        </p:pic>
        <p:sp>
          <p:nvSpPr>
            <p:cNvPr id="684"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68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87" name="PlaceHolder 3"/>
          <p:cNvSpPr>
            <a:spLocks noGrp="1"/>
          </p:cNvSpPr>
          <p:nvPr>
            <p:ph type="dt" idx="46"/>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8" name="PlaceHolder 4"/>
          <p:cNvSpPr>
            <a:spLocks noGrp="1"/>
          </p:cNvSpPr>
          <p:nvPr>
            <p:ph type="ftr" idx="47"/>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9"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CE07-23D3-4E5D-90C8-2D6AF7C38B4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6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65"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PlaceHolder 5"/>
          <p:cNvSpPr>
            <a:spLocks noGrp="1"/>
          </p:cNvSpPr>
          <p:nvPr>
            <p:ph type="sldNum" idx="6"/>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0600-7DED-4D0C-A831-E62EB5786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Rectangle 8"/>
          <p:cNvGrpSpPr/>
          <p:nvPr/>
        </p:nvGrpSpPr>
        <p:grpSpPr>
          <a:xfrm>
            <a:off x="8150400" y="-6480"/>
            <a:ext cx="1000080" cy="6870960"/>
            <a:chOff x="8150400" y="-6480"/>
            <a:chExt cx="1000080" cy="6870960"/>
          </a:xfrm>
        </p:grpSpPr>
        <p:pic>
          <p:nvPicPr>
            <p:cNvPr id="105" name="Rectangle 8" descr=""/>
            <p:cNvPicPr/>
            <p:nvPr/>
          </p:nvPicPr>
          <p:blipFill>
            <a:blip r:embed="rId2"/>
            <a:stretch/>
          </p:blipFill>
          <p:spPr>
            <a:xfrm>
              <a:off x="8150400" y="-6480"/>
              <a:ext cx="1000080" cy="6870960"/>
            </a:xfrm>
            <a:prstGeom prst="rect">
              <a:avLst/>
            </a:prstGeom>
            <a:ln w="0">
              <a:noFill/>
            </a:ln>
          </p:spPr>
        </p:pic>
        <p:sp>
          <p:nvSpPr>
            <p:cNvPr id="10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0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09" name="PlaceHolder 3"/>
          <p:cNvSpPr>
            <a:spLocks noGrp="1"/>
          </p:cNvSpPr>
          <p:nvPr>
            <p:ph type="dt" idx="7"/>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PlaceHolder 4"/>
          <p:cNvSpPr>
            <a:spLocks noGrp="1"/>
          </p:cNvSpPr>
          <p:nvPr>
            <p:ph type="ftr" idx="8"/>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PlaceHolder 5"/>
          <p:cNvSpPr>
            <a:spLocks noGrp="1"/>
          </p:cNvSpPr>
          <p:nvPr>
            <p:ph type="sldNum" idx="9"/>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31A4-AA71-496D-AA51-C99DC98A326E}"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DA81-F93A-4227-A8F3-B4B2308E0A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9" name="Group 2"/>
          <p:cNvGrpSpPr/>
          <p:nvPr/>
        </p:nvGrpSpPr>
        <p:grpSpPr>
          <a:xfrm>
            <a:off x="0" y="0"/>
            <a:ext cx="9144000" cy="6934320"/>
            <a:chOff x="0" y="0"/>
            <a:chExt cx="9144000" cy="6934320"/>
          </a:xfrm>
        </p:grpSpPr>
        <p:sp>
          <p:nvSpPr>
            <p:cNvPr id="190"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2"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0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01"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3"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825B-042E-445B-88C0-5E1C5FA63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4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2"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5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5" name="PlaceHolder 3"/>
          <p:cNvSpPr>
            <a:spLocks noGrp="1"/>
          </p:cNvSpPr>
          <p:nvPr>
            <p:ph type="dt" idx="16"/>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PlaceHolder 4"/>
          <p:cNvSpPr>
            <a:spLocks noGrp="1"/>
          </p:cNvSpPr>
          <p:nvPr>
            <p:ph type="ftr" idx="17"/>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PlaceHolder 5"/>
          <p:cNvSpPr>
            <a:spLocks noGrp="1"/>
          </p:cNvSpPr>
          <p:nvPr>
            <p:ph type="sldNum" idx="18"/>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D978-0CE6-42F4-9413-13E3B518DB4C}"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9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9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9" name="PlaceHolder 3"/>
          <p:cNvSpPr>
            <a:spLocks noGrp="1"/>
          </p:cNvSpPr>
          <p:nvPr>
            <p:ph type="dt" idx="19"/>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PlaceHolder 4"/>
          <p:cNvSpPr>
            <a:spLocks noGrp="1"/>
          </p:cNvSpPr>
          <p:nvPr>
            <p:ph type="ftr" idx="20"/>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5"/>
          <p:cNvSpPr>
            <a:spLocks noGrp="1"/>
          </p:cNvSpPr>
          <p:nvPr>
            <p:ph type="sldNum" idx="21"/>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8277-946A-47E0-9F64-C66491577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38"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1"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4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44" name="PlaceHolder 3"/>
          <p:cNvSpPr>
            <a:spLocks noGrp="1"/>
          </p:cNvSpPr>
          <p:nvPr>
            <p:ph type="dt" idx="22"/>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PlaceHolder 4"/>
          <p:cNvSpPr>
            <a:spLocks noGrp="1"/>
          </p:cNvSpPr>
          <p:nvPr>
            <p:ph type="ftr" idx="23"/>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6" name="PlaceHolder 5"/>
          <p:cNvSpPr>
            <a:spLocks noGrp="1"/>
          </p:cNvSpPr>
          <p:nvPr>
            <p:ph type="sldNum" idx="24"/>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216C-4742-4D97-A2D4-3016B9402A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83"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5"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8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88" name="PlaceHolder 3"/>
          <p:cNvSpPr>
            <a:spLocks noGrp="1"/>
          </p:cNvSpPr>
          <p:nvPr>
            <p:ph type="dt" idx="25"/>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9" name="PlaceHolder 4"/>
          <p:cNvSpPr>
            <a:spLocks noGrp="1"/>
          </p:cNvSpPr>
          <p:nvPr>
            <p:ph type="ftr" idx="26"/>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0" name="PlaceHolder 5"/>
          <p:cNvSpPr>
            <a:spLocks noGrp="1"/>
          </p:cNvSpPr>
          <p:nvPr>
            <p:ph type="sldNum" idx="27"/>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DDC9-8BD0-4EDE-BC3D-F1D56681B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Box 3"/>
          <p:cNvSpPr/>
          <p:nvPr/>
        </p:nvSpPr>
        <p:spPr>
          <a:xfrm>
            <a:off x="0" y="1600200"/>
            <a:ext cx="26668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mel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panol Do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13 de may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gan Potts </a:t>
            </a:r>
            <a:endParaRPr b="0" lang="en-US" sz="3200" spc="-1" strike="noStrike">
              <a:solidFill>
                <a:srgbClr val="ffffff"/>
              </a:solidFill>
              <a:latin typeface="Times New Roman"/>
            </a:endParaRPr>
          </a:p>
        </p:txBody>
      </p:sp>
      <p:pic>
        <p:nvPicPr>
          <p:cNvPr id="734" name="Picture 2" descr="C:\Users\Privvy\AppData\Local\Microsoft\Windows\Temporary Internet Files\Content.IE5\FLSFE9E3\MC900161622[1].wmf"/>
          <p:cNvPicPr/>
          <p:nvPr/>
        </p:nvPicPr>
        <p:blipFill>
          <a:blip r:embed="rId1"/>
          <a:stretch/>
        </p:blipFill>
        <p:spPr>
          <a:xfrm>
            <a:off x="2819520" y="228600"/>
            <a:ext cx="2908080" cy="6087960"/>
          </a:xfrm>
          <a:prstGeom prst="rect">
            <a:avLst/>
          </a:prstGeom>
          <a:ln w="0">
            <a:noFill/>
          </a:ln>
        </p:spPr>
      </p:pic>
      <p:pic>
        <p:nvPicPr>
          <p:cNvPr id="735" name="Picture 3" descr="C:\Users\Privvy\AppData\Local\Microsoft\Windows\Temporary Internet Files\Content.IE5\01Q6E4WP\MC900015895[1].wmf"/>
          <p:cNvPicPr/>
          <p:nvPr/>
        </p:nvPicPr>
        <p:blipFill>
          <a:blip r:embed="rId2"/>
          <a:stretch/>
        </p:blipFill>
        <p:spPr>
          <a:xfrm>
            <a:off x="5286240" y="1905120"/>
            <a:ext cx="3857760" cy="3035160"/>
          </a:xfrm>
          <a:prstGeom prst="rect">
            <a:avLst/>
          </a:prstGeom>
          <a:ln w="0">
            <a:noFill/>
          </a:ln>
        </p:spPr>
      </p:pic>
      <p:sp>
        <p:nvSpPr>
          <p:cNvPr id="736" name="Slide Number Placeholder 6"/>
          <p:cNvSpPr/>
          <p:nvPr/>
        </p:nvSpPr>
        <p:spPr>
          <a:xfrm>
            <a:off x="7880400" y="6556320"/>
            <a:ext cx="588960" cy="2286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5407-7F8D-4DC9-9D77-AACDD5D939D1}" type="slidenum">
              <a:rPr b="1"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6c0a"/>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aking Artifact</a:t>
            </a:r>
            <a:endParaRPr b="0" lang="en-US" sz="4400" spc="-1" strike="noStrike">
              <a:solidFill>
                <a:srgbClr val="000000"/>
              </a:solidFill>
              <a:latin typeface="Calibri"/>
            </a:endParaRPr>
          </a:p>
        </p:txBody>
      </p:sp>
      <p:sp>
        <p:nvSpPr>
          <p:cNvPr id="7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altars we made we had to speak in front of our class about the person our altar was made for. My speaking artifact was me speaking in front of my classmates and teacher.</a:t>
            </a:r>
            <a:endParaRPr b="0" lang="en-US" sz="3200" spc="-1" strike="noStrike">
              <a:solidFill>
                <a:srgbClr val="000000"/>
              </a:solidFill>
              <a:latin typeface="Calibri"/>
            </a:endParaRPr>
          </a:p>
        </p:txBody>
      </p:sp>
      <p:sp>
        <p:nvSpPr>
          <p:cNvPr id="7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D7A8-975B-414C-A21D-26A380800270}"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6c0a"/>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aking Reflection</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y speaking artifact is me speaking in front of my classmates and teacher about my altar over my grandfather. I practiced by looking at my altar and thinking of descriptions and facts about my grandfather. This shows that I am not the best at speaking in front of other people yet in Spanish but with practice I can be. I think if I would redo speaking about my altar I would have thought about more facts and practiced a bit mor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BD87-344E-40AB-BF39-3AC10AD95464}"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452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Artifact</a:t>
            </a:r>
            <a:endParaRPr b="0" lang="en-US" sz="4400" spc="-1" strike="noStrike">
              <a:solidFill>
                <a:srgbClr val="000000"/>
              </a:solidFill>
              <a:latin typeface="Calibri"/>
            </a:endParaRPr>
          </a:p>
        </p:txBody>
      </p:sp>
      <p:sp>
        <p:nvSpPr>
          <p:cNvPr id="76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 Dia de los Muerto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e did day of the dead and this was one of the readings over that topic. It goes over the food and traditions and what goes on over the process of that time of year for those who celebrate thi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FF94-B20A-4D5B-A143-D27E77161EB1}"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452a"/>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Reflection</a:t>
            </a:r>
            <a:endParaRPr b="0" lang="en-US" sz="4400" spc="-1" strike="noStrike">
              <a:solidFill>
                <a:srgbClr val="000000"/>
              </a:solidFill>
              <a:latin typeface="Calibri"/>
            </a:endParaRPr>
          </a:p>
        </p:txBody>
      </p:sp>
      <p:sp>
        <p:nvSpPr>
          <p:cNvPr id="7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y reading reflection was a writing on the Day of the Dead that we had to read and translate. I completed this in class with my desk partner. I chose this artifact because I felt that even with the words on the side that were helpful, I still knew most everything that was in the reading and that is a great feeling. This artifact shows that I can read and translate a reading with regular common knowledge of Spanish. If I were to redo this activity I would change nothing. </a:t>
            </a:r>
            <a:endParaRPr b="0" lang="en-US" sz="3000" spc="-1" strike="noStrike">
              <a:solidFill>
                <a:srgbClr val="000000"/>
              </a:solidFill>
              <a:latin typeface="Calibri"/>
            </a:endParaRPr>
          </a:p>
        </p:txBody>
      </p:sp>
      <p:sp>
        <p:nvSpPr>
          <p:cNvPr id="7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8D3A-1EDB-414B-999E-1438573A1F80}"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 Writing Artifact</a:t>
            </a:r>
            <a:endParaRPr b="0" lang="en-US" sz="4400" spc="-1" strike="noStrike">
              <a:solidFill>
                <a:srgbClr val="000000"/>
              </a:solidFill>
              <a:latin typeface="Calibri"/>
            </a:endParaRPr>
          </a:p>
        </p:txBody>
      </p:sp>
      <p:sp>
        <p:nvSpPr>
          <p:cNvPr id="7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original writing artifact was over the picture of the man with the cheeseburger. It explained how Pablo, the main character’s father owned a restaurant with very good cheeseburgers and how he had missed the bus on purpose to school  because the kids were mean to him, and gone to the restaurant instead.</a:t>
            </a:r>
            <a:endParaRPr b="0" lang="en-US" sz="3200" spc="-1" strike="noStrike">
              <a:solidFill>
                <a:srgbClr val="000000"/>
              </a:solidFill>
              <a:latin typeface="Calibri"/>
            </a:endParaRPr>
          </a:p>
        </p:txBody>
      </p:sp>
      <p:sp>
        <p:nvSpPr>
          <p:cNvPr id="7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3123-40FF-4580-B8FD-AECA2563ADEA}"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 Writing Reflection</a:t>
            </a:r>
            <a:endParaRPr b="0" lang="en-US" sz="4400" spc="-1" strike="noStrike">
              <a:solidFill>
                <a:srgbClr val="000000"/>
              </a:solidFill>
              <a:latin typeface="Calibri"/>
            </a:endParaRPr>
          </a:p>
        </p:txBody>
      </p:sp>
      <p:sp>
        <p:nvSpPr>
          <p:cNvPr id="777" name=""/>
          <p:cNvSpPr txBox="1"/>
          <p:nvPr/>
        </p:nvSpPr>
        <p:spPr>
          <a:xfrm>
            <a:off x="380880" y="14940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original writing artifact was over the story we wrote when choosing a picture to look off of. I wrote this in class and we revised it outside of class. I chose to include this artifact because I felt I actually knew my spanish grammar when I revised my story. It shows that I can apply my grammar knowledge to a paper I am writing. If I could redo this paper I would have added more about what Pable ate at the restaurant. </a:t>
            </a:r>
            <a:endParaRPr b="0" lang="en-US" sz="3200" spc="-1" strike="noStrike">
              <a:solidFill>
                <a:srgbClr val="000000"/>
              </a:solidFill>
              <a:latin typeface="Calibri"/>
            </a:endParaRPr>
          </a:p>
        </p:txBody>
      </p:sp>
      <p:sp>
        <p:nvSpPr>
          <p:cNvPr id="7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84B8-5FED-45BD-B044-0626798A0AD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armela</a:t>
            </a:r>
            <a:endParaRPr b="1" lang="en-US" sz="5400" spc="-1" strike="noStrike">
              <a:solidFill>
                <a:srgbClr val="feec94"/>
              </a:solidFill>
              <a:latin typeface="Times New Roman"/>
            </a:endParaRPr>
          </a:p>
        </p:txBody>
      </p:sp>
      <p:sp>
        <p:nvSpPr>
          <p:cNvPr id="780"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nish II</a:t>
            </a:r>
            <a:endParaRPr b="0" lang="en-US" sz="28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000" spc="-1" strike="noStrike">
                <a:solidFill>
                  <a:srgbClr val="ffffff"/>
                </a:solidFill>
                <a:latin typeface="Times New Roman"/>
              </a:rPr>
              <a:t>a</a:t>
            </a: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ch 11, 2011</a:t>
            </a: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gan Potts</a:t>
            </a:r>
            <a:endParaRPr b="0" lang="en-US" sz="2000" spc="-1" strike="noStrike">
              <a:solidFill>
                <a:srgbClr val="ffffff"/>
              </a:solidFill>
              <a:latin typeface="Times New Roman"/>
            </a:endParaRPr>
          </a:p>
        </p:txBody>
      </p:sp>
      <p:pic>
        <p:nvPicPr>
          <p:cNvPr id="781" name="Picture 4" descr="MC900445350[1]"/>
          <p:cNvPicPr/>
          <p:nvPr/>
        </p:nvPicPr>
        <p:blipFill>
          <a:blip r:embed="rId1"/>
          <a:stretch/>
        </p:blipFill>
        <p:spPr>
          <a:xfrm>
            <a:off x="6705720" y="457200"/>
            <a:ext cx="1796760" cy="1638360"/>
          </a:xfrm>
          <a:prstGeom prst="rect">
            <a:avLst/>
          </a:prstGeom>
          <a:ln w="0">
            <a:noFill/>
          </a:ln>
        </p:spPr>
      </p:pic>
      <p:pic>
        <p:nvPicPr>
          <p:cNvPr id="782" name="Picture 5" descr="MC900104910[1]"/>
          <p:cNvPicPr/>
          <p:nvPr/>
        </p:nvPicPr>
        <p:blipFill>
          <a:blip r:embed="rId2"/>
          <a:stretch/>
        </p:blipFill>
        <p:spPr>
          <a:xfrm>
            <a:off x="990720" y="4952880"/>
            <a:ext cx="1819080" cy="906480"/>
          </a:xfrm>
          <a:prstGeom prst="rect">
            <a:avLst/>
          </a:prstGeom>
          <a:ln w="0">
            <a:noFill/>
          </a:ln>
        </p:spPr>
      </p:pic>
      <p:sp>
        <p:nvSpPr>
          <p:cNvPr id="78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028C-D0F1-4A7E-8045-49E810EF83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monstrates Growth</a:t>
            </a:r>
            <a:endParaRPr b="1" lang="en-US" sz="4400" spc="-1" strike="noStrike">
              <a:solidFill>
                <a:srgbClr val="feec94"/>
              </a:solidFill>
              <a:latin typeface="Times New Roman"/>
            </a:endParaRPr>
          </a:p>
        </p:txBody>
      </p:sp>
      <p:pic>
        <p:nvPicPr>
          <p:cNvPr id="785" name="Picture 4" descr="spanish portfolio"/>
          <p:cNvPicPr/>
          <p:nvPr/>
        </p:nvPicPr>
        <p:blipFill>
          <a:blip r:embed="rId1"/>
          <a:stretch/>
        </p:blipFill>
        <p:spPr>
          <a:xfrm>
            <a:off x="2057400" y="3048120"/>
            <a:ext cx="4800600" cy="3490920"/>
          </a:xfrm>
          <a:prstGeom prst="rect">
            <a:avLst/>
          </a:prstGeom>
          <a:ln w="0">
            <a:noFill/>
          </a:ln>
        </p:spPr>
      </p:pic>
      <p:sp>
        <p:nvSpPr>
          <p:cNvPr id="786" name="Text Box 6"/>
          <p:cNvSpPr/>
          <p:nvPr/>
        </p:nvSpPr>
        <p:spPr>
          <a:xfrm>
            <a:off x="1066680" y="160020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apitals of the Countries that we learned in just a few days and took a quiz over. </a:t>
            </a:r>
            <a:endParaRPr b="0" lang="en-US" sz="1800" spc="-1" strike="noStrike">
              <a:solidFill>
                <a:srgbClr val="ffffff"/>
              </a:solidFill>
              <a:latin typeface="Times New Roman"/>
            </a:endParaRPr>
          </a:p>
        </p:txBody>
      </p:sp>
      <p:sp>
        <p:nvSpPr>
          <p:cNvPr id="78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E559-8D3F-4798-B956-488638243B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 </a:t>
            </a:r>
            <a:br>
              <a:rPr sz="4400"/>
            </a:br>
            <a:r>
              <a:rPr b="1" lang="en-US" sz="2400" spc="-1" strike="noStrike">
                <a:solidFill>
                  <a:srgbClr val="feec94"/>
                </a:solidFill>
                <a:latin typeface="Times New Roman"/>
              </a:rPr>
              <a:t>Demonstrates Growth</a:t>
            </a:r>
            <a:endParaRPr b="1" lang="en-US" sz="2400" spc="-1" strike="noStrike">
              <a:solidFill>
                <a:srgbClr val="feec94"/>
              </a:solidFill>
              <a:latin typeface="Times New Roman"/>
            </a:endParaRPr>
          </a:p>
        </p:txBody>
      </p:sp>
      <p:sp>
        <p:nvSpPr>
          <p:cNvPr id="7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This was a quiz from the capitals of the countries we learned. In class we completed this assessment and we also learned a song that helped all of us pass, I believe.</a:t>
            </a:r>
            <a:r>
              <a:rPr b="0" lang="en-US" sz="3200" spc="-1" strike="noStrike">
                <a:solidFill>
                  <a:srgbClr val="ffffff"/>
                </a:solidFill>
                <a:latin typeface="Times New Roman"/>
              </a:rPr>
              <a:t> </a:t>
            </a:r>
            <a:r>
              <a:rPr b="0" lang="en-US" sz="2000" spc="-1" strike="noStrike">
                <a:solidFill>
                  <a:srgbClr val="ffffff"/>
                </a:solidFill>
                <a:latin typeface="Times New Roman"/>
              </a:rPr>
              <a:t>I chose to include this because for me many things are hard to pick up on and take time in Spanish, but this I caught onto rather quickly and it made me proud. This demonstrates my knowledge of the capitals and how we were taught quick but sufficient about them. I would not do anything different with this activity. </a:t>
            </a:r>
            <a:endParaRPr b="0" lang="en-US" sz="2000" spc="-1" strike="noStrike">
              <a:solidFill>
                <a:srgbClr val="ffffff"/>
              </a:solidFill>
              <a:latin typeface="Times New Roman"/>
            </a:endParaRPr>
          </a:p>
        </p:txBody>
      </p:sp>
      <p:sp>
        <p:nvSpPr>
          <p:cNvPr id="79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6E96-FE9D-4A84-B052-7510B8EDE1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iginal Writing</a:t>
            </a:r>
            <a:endParaRPr b="1" lang="en-US" sz="4400" spc="-1" strike="noStrike">
              <a:solidFill>
                <a:srgbClr val="feec94"/>
              </a:solidFill>
              <a:latin typeface="Times New Roman"/>
            </a:endParaRPr>
          </a:p>
        </p:txBody>
      </p:sp>
      <p:pic>
        <p:nvPicPr>
          <p:cNvPr id="792" name="Picture 4" descr="spanish portfolio 001"/>
          <p:cNvPicPr/>
          <p:nvPr/>
        </p:nvPicPr>
        <p:blipFill>
          <a:blip r:embed="rId1"/>
          <a:stretch/>
        </p:blipFill>
        <p:spPr>
          <a:xfrm>
            <a:off x="4800600" y="1295280"/>
            <a:ext cx="3822840" cy="5257800"/>
          </a:xfrm>
          <a:prstGeom prst="rect">
            <a:avLst/>
          </a:prstGeom>
          <a:ln w="0">
            <a:noFill/>
          </a:ln>
        </p:spPr>
      </p:pic>
      <p:sp>
        <p:nvSpPr>
          <p:cNvPr id="793" name="Text Box 6"/>
          <p:cNvSpPr/>
          <p:nvPr/>
        </p:nvSpPr>
        <p:spPr>
          <a:xfrm>
            <a:off x="762120" y="1828800"/>
            <a:ext cx="3352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is is a timed writing after reading Las audiciones de Santiago. </a:t>
            </a:r>
            <a:endParaRPr b="0" lang="en-US" sz="1800" spc="-1" strike="noStrike">
              <a:solidFill>
                <a:srgbClr val="ffffff"/>
              </a:solidFill>
              <a:latin typeface="Times New Roman"/>
            </a:endParaRPr>
          </a:p>
        </p:txBody>
      </p:sp>
      <p:sp>
        <p:nvSpPr>
          <p:cNvPr id="79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2758-78D5-441A-BF57-203018CAE4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Title 1" descr=""/>
          <p:cNvPicPr/>
          <p:nvPr/>
        </p:nvPicPr>
        <p:blipFill>
          <a:blip r:embed="rId1"/>
          <a:stretch/>
        </p:blipFill>
        <p:spPr>
          <a:xfrm>
            <a:off x="255600" y="-695160"/>
            <a:ext cx="7450200" cy="1122120"/>
          </a:xfrm>
          <a:prstGeom prst="rect">
            <a:avLst/>
          </a:prstGeom>
          <a:ln w="0">
            <a:noFill/>
          </a:ln>
        </p:spPr>
      </p:pic>
      <p:sp>
        <p:nvSpPr>
          <p:cNvPr id="738" name=""/>
          <p:cNvSpPr txBox="1"/>
          <p:nvPr/>
        </p:nvSpPr>
        <p:spPr>
          <a:xfrm>
            <a:off x="-360" y="380880"/>
            <a:ext cx="7924680" cy="6477120"/>
          </a:xfrm>
          <a:prstGeom prst="rect">
            <a:avLst/>
          </a:prstGeom>
          <a:noFill/>
          <a:ln w="0">
            <a:noFill/>
          </a:ln>
        </p:spPr>
        <p:txBody>
          <a:bodyPr lIns="90000" rIns="90000" tIns="46800" bIns="46800" anchor="t">
            <a:normAutofit/>
          </a:bodyPr>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itle Page of all three quarters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able of Contents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Quarter 2 title page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Quarter 2 Goals</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oal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ird quarter title page</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Artifact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Reflect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ird quarter goals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ourth Quarter Read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oice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oice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flection of Entire year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739" name="Slide Number Placeholder 3"/>
          <p:cNvSpPr/>
          <p:nvPr/>
        </p:nvSpPr>
        <p:spPr>
          <a:xfrm>
            <a:off x="6251400" y="6556320"/>
            <a:ext cx="588960" cy="2286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31A8-5E04-4398-A98C-45B5F1ACCD84}" type="slidenum">
              <a:rPr b="0" lang="en-US" sz="1100" spc="-1" strike="noStrike">
                <a:solidFill>
                  <a:srgbClr val="b13f9a"/>
                </a:solidFill>
                <a:latin typeface="Times New Roman"/>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a:t>
            </a:r>
            <a:br>
              <a:rPr sz="4400"/>
            </a:br>
            <a:r>
              <a:rPr b="1" lang="en-US" sz="2400" spc="-1" strike="noStrike">
                <a:solidFill>
                  <a:srgbClr val="feec94"/>
                </a:solidFill>
                <a:latin typeface="Times New Roman"/>
              </a:rPr>
              <a:t>Original Writing</a:t>
            </a:r>
            <a:endParaRPr b="1" lang="en-US" sz="2400" spc="-1" strike="noStrike">
              <a:solidFill>
                <a:srgbClr val="feec94"/>
              </a:solidFill>
              <a:latin typeface="Times New Roman"/>
            </a:endParaRPr>
          </a:p>
        </p:txBody>
      </p:sp>
      <p:sp>
        <p:nvSpPr>
          <p:cNvPr id="7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This is my timed writing for the story Las audiciones de Santiago. It was in-class work and we had five minutes to write however much we could. I wrote as fast as I could to complete it and I don’t feel that it turned out awful. I chose to include this because this was my first timed writing of the year because I came back second quarter and I felt 80 words for my first one was decently okay. This definitely demonstrates my knowledge of more words compared to last year when we would only get 30 to 50 words in Spanish 1. If I were to redo this I would try to write faster and get more words down on my paper. </a:t>
            </a:r>
            <a:endParaRPr b="0" lang="en-US" sz="2000" spc="-1" strike="noStrike">
              <a:solidFill>
                <a:srgbClr val="ffffff"/>
              </a:solidFill>
              <a:latin typeface="Times New Roman"/>
            </a:endParaRPr>
          </a:p>
        </p:txBody>
      </p:sp>
      <p:sp>
        <p:nvSpPr>
          <p:cNvPr id="7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A58D-B996-48A0-AE8E-B90D9C17B6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peaking </a:t>
            </a:r>
            <a:endParaRPr b="1" lang="en-US" sz="4400" spc="-1" strike="noStrike">
              <a:solidFill>
                <a:srgbClr val="feec94"/>
              </a:solidFill>
              <a:latin typeface="Times New Roman"/>
            </a:endParaRPr>
          </a:p>
        </p:txBody>
      </p:sp>
      <p:pic>
        <p:nvPicPr>
          <p:cNvPr id="799" name="Picture 4" descr="spanish portfolio 002"/>
          <p:cNvPicPr/>
          <p:nvPr/>
        </p:nvPicPr>
        <p:blipFill>
          <a:blip r:embed="rId1"/>
          <a:stretch/>
        </p:blipFill>
        <p:spPr>
          <a:xfrm>
            <a:off x="380880" y="1447920"/>
            <a:ext cx="3544920" cy="4876560"/>
          </a:xfrm>
          <a:prstGeom prst="rect">
            <a:avLst/>
          </a:prstGeom>
          <a:ln w="0">
            <a:noFill/>
          </a:ln>
        </p:spPr>
      </p:pic>
      <p:sp>
        <p:nvSpPr>
          <p:cNvPr id="800" name="Text Box 6"/>
          <p:cNvSpPr/>
          <p:nvPr/>
        </p:nvSpPr>
        <p:spPr>
          <a:xfrm>
            <a:off x="5029200" y="2362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port for Culture Week </a:t>
            </a:r>
            <a:endParaRPr b="0" lang="en-US" sz="2400" spc="-1" strike="noStrike">
              <a:solidFill>
                <a:srgbClr val="ffffff"/>
              </a:solidFill>
              <a:latin typeface="Times New Roman"/>
            </a:endParaRPr>
          </a:p>
        </p:txBody>
      </p:sp>
      <p:sp>
        <p:nvSpPr>
          <p:cNvPr id="80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E378-8B15-45C6-A6EF-EBD2CE0C7F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a:t>
            </a:r>
            <a:br>
              <a:rPr sz="4400"/>
            </a:br>
            <a:r>
              <a:rPr b="1" lang="en-US" sz="2400" spc="-1" strike="noStrike">
                <a:solidFill>
                  <a:srgbClr val="feec94"/>
                </a:solidFill>
                <a:latin typeface="Times New Roman"/>
              </a:rPr>
              <a:t>Speaking</a:t>
            </a:r>
            <a:endParaRPr b="1" lang="en-US" sz="2400" spc="-1" strike="noStrike">
              <a:solidFill>
                <a:srgbClr val="feec94"/>
              </a:solidFill>
              <a:latin typeface="Times New Roman"/>
            </a:endParaRPr>
          </a:p>
        </p:txBody>
      </p:sp>
      <p:sp>
        <p:nvSpPr>
          <p:cNvPr id="8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is is my passport from culture week. We were assigned to get five signatures by talking to teachers around the school in Spanish. They would sign our passports after we talked to them. To complete this I talked to eight teachers because it was fun and most teachers even asked to talk to some of us students. I chose to include this because I was really nervous at first to talk to teachers, but as the day went on I got more comfortable. It made me feel like Spanish is not as scary as I make it out to be sometimes. This passport demonstrates how we use Spanish in a ton of different cultures and ways and how I need to be more comfortable if I want to carry out Spanish for a long amount of time. If I did this differently I would just try to talk to more teachers and even try to get them to talk back more. </a:t>
            </a:r>
            <a:endParaRPr b="0" lang="en-US" sz="2000" spc="-1" strike="noStrike">
              <a:solidFill>
                <a:srgbClr val="ffffff"/>
              </a:solidFill>
              <a:latin typeface="Times New Roman"/>
            </a:endParaRPr>
          </a:p>
        </p:txBody>
      </p:sp>
      <p:sp>
        <p:nvSpPr>
          <p:cNvPr id="8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90D2-3064-4784-8731-D84262D140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ltural </a:t>
            </a:r>
            <a:endParaRPr b="1" lang="en-US" sz="4400" spc="-1" strike="noStrike">
              <a:solidFill>
                <a:srgbClr val="feec94"/>
              </a:solidFill>
              <a:latin typeface="Times New Roman"/>
            </a:endParaRPr>
          </a:p>
        </p:txBody>
      </p:sp>
      <p:pic>
        <p:nvPicPr>
          <p:cNvPr id="806" name="Picture 4" descr="spanish portfolio 003"/>
          <p:cNvPicPr/>
          <p:nvPr/>
        </p:nvPicPr>
        <p:blipFill>
          <a:blip r:embed="rId1"/>
          <a:stretch/>
        </p:blipFill>
        <p:spPr>
          <a:xfrm>
            <a:off x="4952880" y="1219320"/>
            <a:ext cx="3878280" cy="5333760"/>
          </a:xfrm>
          <a:prstGeom prst="rect">
            <a:avLst/>
          </a:prstGeom>
          <a:ln w="0">
            <a:noFill/>
          </a:ln>
        </p:spPr>
      </p:pic>
      <p:sp>
        <p:nvSpPr>
          <p:cNvPr id="807" name="Text Box 6"/>
          <p:cNvSpPr/>
          <p:nvPr/>
        </p:nvSpPr>
        <p:spPr>
          <a:xfrm>
            <a:off x="914400" y="175248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mulation Debrief from culture week over countries economy and the activity we did.</a:t>
            </a:r>
            <a:endParaRPr b="0" lang="en-US" sz="1800" spc="-1" strike="noStrike">
              <a:solidFill>
                <a:srgbClr val="ffffff"/>
              </a:solidFill>
              <a:latin typeface="Times New Roman"/>
            </a:endParaRPr>
          </a:p>
        </p:txBody>
      </p:sp>
      <p:sp>
        <p:nvSpPr>
          <p:cNvPr id="80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BC6B-7748-4243-9AAF-A5D06165E7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pic>
        <p:nvPicPr>
          <p:cNvPr id="809" name="Rectangle 2" descr=""/>
          <p:cNvPicPr/>
          <p:nvPr/>
        </p:nvPicPr>
        <p:blipFill>
          <a:blip r:embed="rId1"/>
          <a:stretch/>
        </p:blipFill>
        <p:spPr>
          <a:xfrm>
            <a:off x="450720" y="255600"/>
            <a:ext cx="8242560" cy="1414440"/>
          </a:xfrm>
          <a:prstGeom prst="rect">
            <a:avLst/>
          </a:prstGeom>
          <a:ln w="0">
            <a:noFill/>
          </a:ln>
        </p:spPr>
      </p:pic>
      <p:sp>
        <p:nvSpPr>
          <p:cNvPr id="81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000" spc="-1" strike="noStrike">
                <a:solidFill>
                  <a:srgbClr val="ffffff"/>
                </a:solidFill>
                <a:latin typeface="Century Gothic"/>
              </a:rPr>
              <a:t>This is a simulation debrief over the real world and how countries work with each other, and our in class activity about how those countries with our classmates were. To complete this we had to complete the activity in class and then we pretty much reflected over how the real world works with trade and economy and such. I chose to include this debrief because it showed our culture from other countries cultures and how us kids can compare them even in a classroom. This artifact demonstrates how much I understand of how cultures are different and even how I can explain how they are different. If we redid this activity I would change nothing. </a:t>
            </a:r>
            <a:endParaRPr b="0" lang="en-US" sz="2000" spc="-1" strike="noStrike">
              <a:solidFill>
                <a:srgbClr val="ffffff"/>
              </a:solidFill>
              <a:latin typeface="Century Gothic"/>
            </a:endParaRPr>
          </a:p>
        </p:txBody>
      </p:sp>
      <p:sp>
        <p:nvSpPr>
          <p:cNvPr id="811" name="Slide Number Placeholder 3"/>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1031-1312-4A94-A808-96598C3DF0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ading </a:t>
            </a:r>
            <a:endParaRPr b="1" lang="en-US" sz="4400" spc="-1" strike="noStrike">
              <a:solidFill>
                <a:srgbClr val="feec94"/>
              </a:solidFill>
              <a:latin typeface="Times New Roman"/>
            </a:endParaRPr>
          </a:p>
        </p:txBody>
      </p:sp>
      <p:pic>
        <p:nvPicPr>
          <p:cNvPr id="813" name="Picture 4" descr="spanish portfolio 004"/>
          <p:cNvPicPr/>
          <p:nvPr/>
        </p:nvPicPr>
        <p:blipFill>
          <a:blip r:embed="rId1"/>
          <a:stretch/>
        </p:blipFill>
        <p:spPr>
          <a:xfrm>
            <a:off x="228600" y="990720"/>
            <a:ext cx="5105520" cy="5715000"/>
          </a:xfrm>
          <a:prstGeom prst="rect">
            <a:avLst/>
          </a:prstGeom>
          <a:ln w="0">
            <a:noFill/>
          </a:ln>
        </p:spPr>
      </p:pic>
      <p:sp>
        <p:nvSpPr>
          <p:cNvPr id="814" name="Text Box 6"/>
          <p:cNvSpPr/>
          <p:nvPr/>
        </p:nvSpPr>
        <p:spPr>
          <a:xfrm>
            <a:off x="6172200" y="1523880"/>
            <a:ext cx="2819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is is a reading we did a lot with in class. We answered questions, had new vocab, and practiced reflexives in it. </a:t>
            </a:r>
            <a:endParaRPr b="0" lang="en-US" sz="1800" spc="-1" strike="noStrike">
              <a:solidFill>
                <a:srgbClr val="ffffff"/>
              </a:solidFill>
              <a:latin typeface="Times New Roman"/>
            </a:endParaRPr>
          </a:p>
        </p:txBody>
      </p:sp>
      <p:sp>
        <p:nvSpPr>
          <p:cNvPr id="81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20EC-4C25-4E6D-9DB5-B1E68835CE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pic>
        <p:nvPicPr>
          <p:cNvPr id="816" name="Rectangle 2" descr=""/>
          <p:cNvPicPr/>
          <p:nvPr/>
        </p:nvPicPr>
        <p:blipFill>
          <a:blip r:embed="rId1"/>
          <a:stretch/>
        </p:blipFill>
        <p:spPr>
          <a:xfrm>
            <a:off x="450720" y="262080"/>
            <a:ext cx="8242560" cy="1407960"/>
          </a:xfrm>
          <a:prstGeom prst="rect">
            <a:avLst/>
          </a:prstGeom>
          <a:ln w="0">
            <a:noFill/>
          </a:ln>
        </p:spPr>
      </p:pic>
      <p:sp>
        <p:nvSpPr>
          <p:cNvPr id="81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is was a short story we were assigned in class. For this we made questions, answered questions, and did a timed writing. We worked a lot with this story and I included it because by repetition with it I felt comfortable with the reflexive verbs and the new vocab in it. As a learner of Spanish this shows that reading and understanding are two completely different things but with help, cognates, and knowledge you can get through it. This artifact demonstrates how far I have come with not only reading but writing and comprehension of Spanish. Not only in class but in reading too. If I were to do this differently I would have paid a little bit more attention and tried to absorb more before the timed writing. </a:t>
            </a:r>
            <a:endParaRPr b="0" lang="en-US" sz="2000" spc="-1" strike="noStrike">
              <a:solidFill>
                <a:srgbClr val="ffffff"/>
              </a:solidFill>
              <a:latin typeface="Century Gothic"/>
            </a:endParaRPr>
          </a:p>
        </p:txBody>
      </p:sp>
      <p:sp>
        <p:nvSpPr>
          <p:cNvPr id="818" name="Slide Number Placeholder 3"/>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728A-024D-453E-A855-4A4F729DA6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19" name="Rectangle 2" descr=""/>
          <p:cNvPicPr/>
          <p:nvPr/>
        </p:nvPicPr>
        <p:blipFill>
          <a:blip r:embed="rId1"/>
          <a:stretch/>
        </p:blipFill>
        <p:spPr>
          <a:xfrm>
            <a:off x="450720" y="262080"/>
            <a:ext cx="8242560" cy="1407960"/>
          </a:xfrm>
          <a:prstGeom prst="rect">
            <a:avLst/>
          </a:prstGeom>
          <a:ln w="0">
            <a:noFill/>
          </a:ln>
        </p:spPr>
      </p:pic>
      <p:sp>
        <p:nvSpPr>
          <p:cNvPr id="82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o understand and comprehend more grammar</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ring home my binder and study vocab 15 minutes every night. </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ome in after school and ask questions about grammar, vocab or any other questions</a:t>
            </a:r>
            <a:endParaRPr b="0" lang="en-US" sz="2000" spc="-1" strike="noStrike">
              <a:solidFill>
                <a:srgbClr val="ffffff"/>
              </a:solidFill>
              <a:latin typeface="Century Gothic"/>
            </a:endParaRPr>
          </a:p>
        </p:txBody>
      </p:sp>
      <p:sp>
        <p:nvSpPr>
          <p:cNvPr id="821" name="Text Box 4"/>
          <p:cNvSpPr/>
          <p:nvPr/>
        </p:nvSpPr>
        <p:spPr>
          <a:xfrm>
            <a:off x="304920" y="373392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is quarter I have learned about a ton such as reflexive verbs, la a personal, new vocab, culture week with dances and different languages, and much more. I’m going to keep all three goals the same for fourth quarter, and not modify any of the three. The strategies I used this quarter was self-discipline. I knew if I didn’t understand something I HAD to ask and not to be afraid to come in for help. I definitely will keep those strategies with fourth quarter coming up. </a:t>
            </a:r>
            <a:endParaRPr b="0" lang="en-US" sz="1800" spc="-1" strike="noStrike">
              <a:solidFill>
                <a:srgbClr val="ffffff"/>
              </a:solidFill>
              <a:latin typeface="Times New Roman"/>
            </a:endParaRPr>
          </a:p>
        </p:txBody>
      </p:sp>
      <p:sp>
        <p:nvSpPr>
          <p:cNvPr id="822" name="Slide Number Placeholder 4"/>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2963-55BD-46F3-A136-B403FB1B7B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Title 1" descr=""/>
          <p:cNvPicPr/>
          <p:nvPr/>
        </p:nvPicPr>
        <p:blipFill>
          <a:blip r:embed="rId1"/>
          <a:stretch/>
        </p:blipFill>
        <p:spPr>
          <a:xfrm>
            <a:off x="450720" y="262080"/>
            <a:ext cx="8242560" cy="1407960"/>
          </a:xfrm>
          <a:prstGeom prst="rect">
            <a:avLst/>
          </a:prstGeom>
          <a:ln w="0">
            <a:noFill/>
          </a:ln>
        </p:spPr>
      </p:pic>
      <p:sp>
        <p:nvSpPr>
          <p:cNvPr id="824" name=""/>
          <p:cNvSpPr txBox="1"/>
          <p:nvPr/>
        </p:nvSpPr>
        <p:spPr>
          <a:xfrm>
            <a:off x="457200" y="1882800"/>
            <a:ext cx="4191120" cy="4518000"/>
          </a:xfrm>
          <a:prstGeom prst="rect">
            <a:avLst/>
          </a:prstGeom>
          <a:noFill/>
          <a:ln w="0">
            <a:noFill/>
          </a:ln>
        </p:spPr>
        <p:txBody>
          <a:bodyPr lIns="90000" rIns="90000" tIns="46800" bIns="46800"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000" spc="-1" strike="noStrike">
                <a:solidFill>
                  <a:srgbClr val="ffffff"/>
                </a:solidFill>
                <a:latin typeface="Century Gothic"/>
              </a:rPr>
              <a:t>This is my reading artifact for quarter four. It is a story that we conjugated verbs while translating the story. Overall I liked this activity, and even though I am still correcting some of my conjugations, I enjoyed this very much. </a:t>
            </a:r>
            <a:endParaRPr b="0" lang="en-US" sz="2000" spc="-1" strike="noStrike">
              <a:solidFill>
                <a:srgbClr val="ffffff"/>
              </a:solidFill>
              <a:latin typeface="Century Gothic"/>
            </a:endParaRPr>
          </a:p>
        </p:txBody>
      </p:sp>
      <p:pic>
        <p:nvPicPr>
          <p:cNvPr id="825" name="Picture 2" descr="G:\spanish port. 4 number two pic.JPG"/>
          <p:cNvPicPr/>
          <p:nvPr/>
        </p:nvPicPr>
        <p:blipFill>
          <a:blip r:embed="rId2"/>
          <a:stretch/>
        </p:blipFill>
        <p:spPr>
          <a:xfrm>
            <a:off x="5029200" y="1523880"/>
            <a:ext cx="3878280" cy="5334120"/>
          </a:xfrm>
          <a:prstGeom prst="rect">
            <a:avLst/>
          </a:prstGeom>
          <a:ln w="0">
            <a:noFill/>
          </a:ln>
        </p:spPr>
      </p:pic>
      <p:sp>
        <p:nvSpPr>
          <p:cNvPr id="826" name="Slide Number Placeholder 4"/>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37D9-CB43-4877-B2F6-82F31B4042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Title 1" descr=""/>
          <p:cNvPicPr/>
          <p:nvPr/>
        </p:nvPicPr>
        <p:blipFill>
          <a:blip r:embed="rId1"/>
          <a:stretch/>
        </p:blipFill>
        <p:spPr>
          <a:xfrm>
            <a:off x="450720" y="262080"/>
            <a:ext cx="8242560" cy="1407960"/>
          </a:xfrm>
          <a:prstGeom prst="rect">
            <a:avLst/>
          </a:prstGeom>
          <a:ln w="0">
            <a:noFill/>
          </a:ln>
        </p:spPr>
      </p:pic>
      <p:sp>
        <p:nvSpPr>
          <p:cNvPr id="8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2400" spc="-1" strike="noStrike">
                <a:solidFill>
                  <a:srgbClr val="ffffff"/>
                </a:solidFill>
                <a:latin typeface="Century Gothic"/>
              </a:rPr>
              <a:t>This was my reading artifact. I chose this because it shows how much I have grown in translating a Spanish story, not only in words but figuring the forms of grammar also. This shows overall how much I have learned as far as new vocabulary and grammar throughout the year. This demonstrates growth in how many different ways we can now see words throughout a story in forms of past and present, etc. If I were to do this over I would fix all my forms of verbs into the right form. </a:t>
            </a:r>
            <a:endParaRPr b="0" lang="en-US" sz="2400" spc="-1" strike="noStrike">
              <a:solidFill>
                <a:srgbClr val="ffffff"/>
              </a:solidFill>
              <a:latin typeface="Century Gothic"/>
            </a:endParaRPr>
          </a:p>
        </p:txBody>
      </p:sp>
      <p:sp>
        <p:nvSpPr>
          <p:cNvPr id="829" name="Slide Number Placeholder 3"/>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1D5A-9D22-4B65-B86B-74F46A702E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40" name="Picture 5" descr="C:\Users\Privvy\AppData\Local\Microsoft\Windows\Temporary Internet Files\Content.IE5\LJWGNXGV\MC900098077[1].wmf"/>
          <p:cNvPicPr/>
          <p:nvPr/>
        </p:nvPicPr>
        <p:blipFill>
          <a:blip r:embed="rId1"/>
          <a:stretch/>
        </p:blipFill>
        <p:spPr>
          <a:xfrm>
            <a:off x="2514600" y="0"/>
            <a:ext cx="3733920" cy="4479840"/>
          </a:xfrm>
          <a:prstGeom prst="rect">
            <a:avLst/>
          </a:prstGeom>
          <a:ln w="0">
            <a:noFill/>
          </a:ln>
        </p:spPr>
      </p:pic>
      <p:sp>
        <p:nvSpPr>
          <p:cNvPr id="741" name="Rectangle 4"/>
          <p:cNvSpPr/>
          <p:nvPr/>
        </p:nvSpPr>
        <p:spPr>
          <a:xfrm>
            <a:off x="358128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rmela</a:t>
            </a:r>
            <a:br>
              <a:rPr sz="1800"/>
            </a:br>
            <a:r>
              <a:rPr b="1" lang="en-US" sz="1800" spc="-1" strike="noStrike">
                <a:solidFill>
                  <a:srgbClr val="ffffff"/>
                </a:solidFill>
                <a:latin typeface="Times New Roman"/>
              </a:rPr>
              <a:t>Spanish 2</a:t>
            </a:r>
            <a:br>
              <a:rPr sz="1800"/>
            </a:br>
            <a:r>
              <a:rPr b="1" lang="en-US" sz="1800" spc="-1" strike="noStrike">
                <a:solidFill>
                  <a:srgbClr val="ffffff"/>
                </a:solidFill>
                <a:latin typeface="Times New Roman"/>
              </a:rPr>
              <a:t>      1a</a:t>
            </a:r>
            <a:br>
              <a:rPr sz="1800"/>
            </a:br>
            <a:r>
              <a:rPr b="1" lang="en-US" sz="1800" spc="-1" strike="noStrike">
                <a:solidFill>
                  <a:srgbClr val="ffffff"/>
                </a:solidFill>
                <a:latin typeface="Times New Roman"/>
              </a:rPr>
              <a:t>el 16 de diciembre</a:t>
            </a:r>
            <a:br>
              <a:rPr sz="1800"/>
            </a:br>
            <a:r>
              <a:rPr b="1" lang="en-US" sz="1800" spc="-1" strike="noStrike">
                <a:solidFill>
                  <a:srgbClr val="ffffff"/>
                </a:solidFill>
                <a:latin typeface="Times New Roman"/>
              </a:rPr>
              <a:t>Morgan Potts</a:t>
            </a:r>
            <a:endParaRPr b="0" lang="en-US" sz="1800" spc="-1" strike="noStrike">
              <a:solidFill>
                <a:srgbClr val="ffffff"/>
              </a:solidFill>
              <a:latin typeface="Times New Roman"/>
            </a:endParaRPr>
          </a:p>
        </p:txBody>
      </p:sp>
      <p:sp>
        <p:nvSpPr>
          <p:cNvPr id="7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CA79-36DD-4838-8957-F69DB81AD239}"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Title 1" descr=""/>
          <p:cNvPicPr/>
          <p:nvPr/>
        </p:nvPicPr>
        <p:blipFill>
          <a:blip r:embed="rId1"/>
          <a:stretch/>
        </p:blipFill>
        <p:spPr>
          <a:xfrm>
            <a:off x="450720" y="122400"/>
            <a:ext cx="8242560" cy="1547640"/>
          </a:xfrm>
          <a:prstGeom prst="rect">
            <a:avLst/>
          </a:prstGeom>
          <a:ln w="0">
            <a:noFill/>
          </a:ln>
        </p:spPr>
      </p:pic>
      <p:sp>
        <p:nvSpPr>
          <p:cNvPr id="831" name=""/>
          <p:cNvSpPr txBox="1"/>
          <p:nvPr/>
        </p:nvSpPr>
        <p:spPr>
          <a:xfrm>
            <a:off x="457200" y="1371240"/>
            <a:ext cx="3581280" cy="487692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pic>
        <p:nvPicPr>
          <p:cNvPr id="832" name="Picture 2" descr="G:\spanish port. 4.JPG"/>
          <p:cNvPicPr/>
          <p:nvPr/>
        </p:nvPicPr>
        <p:blipFill>
          <a:blip r:embed="rId2"/>
          <a:stretch/>
        </p:blipFill>
        <p:spPr>
          <a:xfrm>
            <a:off x="4495680" y="1066680"/>
            <a:ext cx="4191120" cy="5394600"/>
          </a:xfrm>
          <a:prstGeom prst="rect">
            <a:avLst/>
          </a:prstGeom>
          <a:ln w="0">
            <a:noFill/>
          </a:ln>
        </p:spPr>
      </p:pic>
      <p:sp>
        <p:nvSpPr>
          <p:cNvPr id="833" name="TextBox 4"/>
          <p:cNvSpPr/>
          <p:nvPr/>
        </p:nvSpPr>
        <p:spPr>
          <a:xfrm>
            <a:off x="304920" y="1447920"/>
            <a:ext cx="3962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Is my artifact of  choice. It is a SQU chart or in other words, know, want to know, and learn. We are doing this chart over Argentina before, and during our book we are reading.</a:t>
            </a:r>
            <a:endParaRPr b="0" lang="en-US" sz="2400" spc="-1" strike="noStrike">
              <a:solidFill>
                <a:srgbClr val="ffffff"/>
              </a:solidFill>
              <a:latin typeface="Times New Roman"/>
            </a:endParaRPr>
          </a:p>
        </p:txBody>
      </p:sp>
      <p:sp>
        <p:nvSpPr>
          <p:cNvPr id="834" name="Slide Number Placeholder 5"/>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685D-5637-4528-8AC1-5F3F6A2AE6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Title 1" descr=""/>
          <p:cNvPicPr/>
          <p:nvPr/>
        </p:nvPicPr>
        <p:blipFill>
          <a:blip r:embed="rId1"/>
          <a:stretch/>
        </p:blipFill>
        <p:spPr>
          <a:xfrm>
            <a:off x="596880" y="-165240"/>
            <a:ext cx="8102520" cy="1476360"/>
          </a:xfrm>
          <a:prstGeom prst="rect">
            <a:avLst/>
          </a:prstGeom>
          <a:ln w="0">
            <a:noFill/>
          </a:ln>
        </p:spPr>
      </p:pic>
      <p:sp>
        <p:nvSpPr>
          <p:cNvPr id="836" name=""/>
          <p:cNvSpPr txBox="1"/>
          <p:nvPr/>
        </p:nvSpPr>
        <p:spPr>
          <a:xfrm>
            <a:off x="457200" y="13716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
        <p:nvSpPr>
          <p:cNvPr id="837" name="TextBox 3"/>
          <p:cNvSpPr/>
          <p:nvPr/>
        </p:nvSpPr>
        <p:spPr>
          <a:xfrm>
            <a:off x="304920" y="1447920"/>
            <a:ext cx="8534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is my artifact of choice. I included this because it has inspired me to travel and discover new things about other countries. As a learner it shows how much I am interested and motivated to learn and be interested in another country. This also demonstrates how far you can come from starting a topic and ending a topic, the knowledge you learn inbetween. Overall I would not redo this chart and still have yet to finish this because it is an in class activity. </a:t>
            </a:r>
            <a:endParaRPr b="0" lang="en-US" sz="2400" spc="-1" strike="noStrike">
              <a:solidFill>
                <a:srgbClr val="ffffff"/>
              </a:solidFill>
              <a:latin typeface="Times New Roman"/>
            </a:endParaRPr>
          </a:p>
        </p:txBody>
      </p:sp>
      <p:sp>
        <p:nvSpPr>
          <p:cNvPr id="838" name="Slide Number Placeholder 4"/>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C40BF-D701-414A-A2E8-2612A89526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Title 1" descr=""/>
          <p:cNvPicPr/>
          <p:nvPr/>
        </p:nvPicPr>
        <p:blipFill>
          <a:blip r:embed="rId1"/>
          <a:stretch/>
        </p:blipFill>
        <p:spPr>
          <a:xfrm>
            <a:off x="450720" y="146160"/>
            <a:ext cx="8242560" cy="1414440"/>
          </a:xfrm>
          <a:prstGeom prst="rect">
            <a:avLst/>
          </a:prstGeom>
          <a:ln w="0">
            <a:noFill/>
          </a:ln>
        </p:spPr>
      </p:pic>
      <p:sp>
        <p:nvSpPr>
          <p:cNvPr id="8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
        <p:nvSpPr>
          <p:cNvPr id="841" name="TextBox 4"/>
          <p:cNvSpPr/>
          <p:nvPr/>
        </p:nvSpPr>
        <p:spPr>
          <a:xfrm>
            <a:off x="304920" y="1447920"/>
            <a:ext cx="86104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year in Spanish class I have accomplished a lot. Some of my main goals were comprehension of grammar and vocabulary. They have mostly been accomplished and I am proud of that for my understanding and focus on the past, present and much more. The ways I accomplished these goals were hard. I studied a lot and still continue to over the imperfect and preterite tenses, and also all new vocabulary. My studying were mostly flashcards. I can honestly say the songs that we sing stick and my head, and so did patty cake. Activities that I enjoyed were definitely patty cake and also the pig game, and songs. In Spanish class this year the most meaningful experience I had was coming in for help after school and receiving direct help from Sra. Baedke. Overall my Spanish plans are definitely Spanish three, four, and depending if I can handle it Spanish five for the future business life I plan to have. </a:t>
            </a:r>
            <a:endParaRPr b="0" lang="en-US" sz="2400" spc="-1" strike="noStrike">
              <a:solidFill>
                <a:srgbClr val="ffffff"/>
              </a:solidFill>
              <a:latin typeface="Times New Roman"/>
            </a:endParaRPr>
          </a:p>
        </p:txBody>
      </p:sp>
      <p:sp>
        <p:nvSpPr>
          <p:cNvPr id="842" name="Slide Number Placeholder 5"/>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F792-2AC4-4217-91C3-9981523F79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7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onfident in the uses of ser and esta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able to ask questions on grammar us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actice ser and estar in writing and at home</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1D87-853C-45B0-8054-CBC46AB43D13}"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74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I was not here first quarter so these are new goals for me. I will see if I need to revise them next quarter.</a:t>
            </a:r>
            <a:endParaRPr b="0" lang="en-US" sz="27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I am doing well with my current goals because I have actually stuck to them, practiced, and asked questions in class. I have learned more about ser and estar, present progressive that use estar, 2 verb construction, irregular verbs, the day of the dead and much more. I am keeping all of my goals and I do not need to modify any of the three yet. I am satisfied with my goals for this quarter and feel like I did rather well maintaining them. </a:t>
            </a:r>
            <a:endParaRPr b="0" lang="en-US" sz="27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5A0B-CB49-42FF-A382-A086C0C38C22}"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ltural Artifact</a:t>
            </a:r>
            <a:endParaRPr b="0" lang="en-US" sz="4400" spc="-1" strike="noStrike">
              <a:solidFill>
                <a:srgbClr val="000000"/>
              </a:solidFill>
              <a:latin typeface="Calibri"/>
            </a:endParaRPr>
          </a:p>
        </p:txBody>
      </p:sp>
      <p:sp>
        <p:nvSpPr>
          <p:cNvPr id="75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ar</a:t>
            </a:r>
            <a:endParaRPr b="0" lang="en-US" sz="4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en-US" sz="4000" spc="-1" strike="noStrike">
                <a:solidFill>
                  <a:srgbClr val="ffffff"/>
                </a:solidFill>
                <a:latin typeface="Calibri"/>
              </a:rPr>
              <a:t>	</a:t>
            </a:r>
            <a:r>
              <a:rPr b="0" lang="en-US" sz="2700" spc="-1" strike="noStrike">
                <a:solidFill>
                  <a:srgbClr val="ffffff"/>
                </a:solidFill>
                <a:latin typeface="Calibri"/>
              </a:rPr>
              <a:t>We did the Day of the Dead and I did an altar over my grandfather who died. It had a card on it because he loved playing cards. It also had a boat and water out of construction paper because he also loved being out on the river on his boat. I drew a dog because he always went up to the dog tracks with my cousins and I and helped us bet on dogs that would win races so we would get money. He was a very loving man who loved his family and I put my grandmothers name and also my mother and her siblings name on his altar.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6512-C5B6-47E9-83D3-E4EAAEDE54F3}"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ltural Reflection</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The Altar is my cultural artifact. This was a piece on day of the dead of someone we knew that had died that we honored through a altar, or in our case a shoe box. It took a lot of creativity and time to complete this project and I chose this artifact to show that I worked hard and loved my grandfather. This artifact really shows that I knew how to describe my grandfather and how to represent him even through another language. To me I should have put more detail into my altar but overall I am satisfied with this. </a:t>
            </a:r>
            <a:endParaRPr b="0" lang="en-US" sz="3000" spc="-1" strike="noStrike">
              <a:solidFill>
                <a:srgbClr val="000000"/>
              </a:solidFill>
              <a:latin typeface="Calibri"/>
            </a:endParaRPr>
          </a:p>
        </p:txBody>
      </p:sp>
      <p:sp>
        <p:nvSpPr>
          <p:cNvPr id="7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AF0B-0D8A-4984-A810-09F61CB37AE4}"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fact that Demonstrates Growth</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 con ser y est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 eres simpatic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n es ese homb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de est Bogat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coche es blanc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ela es de Mexic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o estas tu ho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oy muy bi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bastian esta en Mexic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s y dos son cuat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 mujer baja es Elena Guittere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los osn de Nicaragu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is en Panam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 eres muy intelligne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F482-1D3F-440F-8482-A8333AF662A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fact that Demonstrates Growth Reflection </a:t>
            </a:r>
            <a:endParaRPr b="0" lang="en-US" sz="40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This was my growth artifact. It was a practice over ser and estar. The first time we did a practice over the computers and through worksheets I did not do very well but this I actually did alright. We did this in class so to complete it I used common knowledge. I chose this practice because it made me feel good about the progress I have made with ser and estar. This artifact demonstrates that I have been trying to learn and listen and it paid off before my quiz although I do struggle sometimes. I would not do anything different if I could redo this practic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F3E6-09CF-4126-B7CA-5A8FE973554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1:58:49Z</dcterms:created>
  <dc:creator>Tom Potts</dc:creator>
  <dc:description/>
  <dc:language>en-US</dc:language>
  <cp:lastModifiedBy>Privvy</cp:lastModifiedBy>
  <dcterms:modified xsi:type="dcterms:W3CDTF">2011-05-13T04:48:45Z</dcterms:modified>
  <cp:revision>11</cp:revision>
  <dc:subject/>
  <dc:title>Carmela</dc:title>
</cp:coreProperties>
</file>